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83023"/>
        <c:axId val="71998252"/>
      </c:barChart>
      <c:catAx>
        <c:axId val="34683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8252"/>
        <c:crosses val="autoZero"/>
        <c:auto val="1"/>
        <c:lblAlgn val="ctr"/>
        <c:lblOffset val="100"/>
        <c:noMultiLvlLbl val="0"/>
      </c:catAx>
      <c:valAx>
        <c:axId val="71998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83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EB3-2863-4DA0-A0A2-8D6171AB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29E-FBE9-4381-B6F7-8B8BAFC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F08-822D-45FD-9D72-3A6639BC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5E3-6A7E-413C-AE72-2D4F76C1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525-7887-4C30-A2C9-8DCDF7D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6D3-6D32-445D-9CD5-4ED370D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28F-F9C2-4E95-9C25-2292147E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EAC-AFF2-4371-98A1-9ECF4CB5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1B9-7E22-44D8-AA00-867FB6F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A3D-D3E4-458E-8572-0B4A7049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2AD-7EA2-4F0C-8059-4A006FA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5E8-7A56-4CF0-925E-15F1EA15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FB5E9-8585-4C09-AE2C-BE83F3EB9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